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F0A-C1B6-409B-851E-B43A0A64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98C-1D50-4A58-89A8-40EBE0E5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D94-CF92-4FAA-B3A3-AD37F4ED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0C7-C411-4583-920A-3E25DEA4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E01-C030-46D9-A069-B85CF0CA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D05-359B-4325-BC54-18A68DE8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83D-CD99-4F89-BCDE-EDF1FDC0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D88-A93F-4A51-BDF3-57742789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EE4-5CFF-42B9-B2E2-EC4F5C60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CD4-38E3-4390-90E8-8BD76724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8A0-E998-40F5-AEAF-236ADCF9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A36-CC91-48E1-9921-0E1ED908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C15E-E74C-46F0-B13E-6041E549F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adjecti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4724280"/>
            <a:ext cx="424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1197000"/>
            <a:ext cx="59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en-NZ" sz="4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NZ" sz="40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NZ" sz="4000" spc="-1" strike="noStrike">
                <a:solidFill>
                  <a:srgbClr val="00ccff"/>
                </a:solidFill>
                <a:latin typeface="Arial"/>
              </a:rPr>
              <a:t>o</a:t>
            </a:r>
            <a:r>
              <a:rPr b="0" lang="en-NZ" sz="4000" spc="-1" strike="noStrike">
                <a:solidFill>
                  <a:srgbClr val="008000"/>
                </a:solidFill>
                <a:latin typeface="Arial"/>
              </a:rPr>
              <a:t>u</a:t>
            </a:r>
            <a:r>
              <a:rPr b="0" lang="en-NZ" sz="4000" spc="-1" strike="noStrike">
                <a:solidFill>
                  <a:srgbClr val="cc0099"/>
                </a:solidFill>
                <a:latin typeface="Arial"/>
              </a:rPr>
              <a:t>r</a:t>
            </a:r>
            <a:r>
              <a:rPr b="0" lang="en-NZ" sz="4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, shapes, s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, textur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700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4560" y="3213000"/>
            <a:ext cx="71294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a description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describing a nou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G: The </a:t>
            </a: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furry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cat. The </a:t>
            </a: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purple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4941720"/>
            <a:ext cx="6193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cc0000"/>
                </a:solidFill>
                <a:latin typeface="Arial"/>
              </a:rPr>
              <a:t>hard, soft, furry, tall, red, spot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eels more interesting to r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09:48:02Z</dcterms:modified>
  <cp:revision>20</cp:revision>
  <dc:subject/>
  <dc:title>Simile</dc:title>
</cp:coreProperties>
</file>